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move the slid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CF26-CB5B-44F8-8F1A-87CFD29A0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6325-A632-406A-A2EB-F398955D0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7FD4-1690-4286-9275-58945BF29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A419-C356-4048-8C6F-97F6463E6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12AF-191A-4187-A4B6-A8BB5F8EC89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C7D32-F8C2-41C7-9860-D454940E6A4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4E454-950F-4E45-869F-9E078B35C15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A2336-7BEA-4CE2-A44D-9E70978FD1E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A1D8D-43F4-47E6-89D5-18F8C89526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B51C8-3AC6-42A4-AA5E-52DDCCADCC2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E4AAC-4F29-46D3-B760-1380367D742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089B3-EE35-4727-9762-CFD4AE9757F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E4423-2410-4CE2-80B0-B6FCC761865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7B880-E0F0-4423-8CBA-6853DCEDB1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DA7E0-16DC-4025-90D4-85ABCA340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6A6C-8479-4A34-B2A8-B7B69D4ED2D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9FF02-41ED-447E-97B0-21F41D80B38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68021-1315-4903-99FD-8DA126E5059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91223D-F629-411F-B7C6-32F450A9417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11135-60A0-453C-A457-AD35682E74F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CC81F-D5A8-42F7-98FF-CE9272909D8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52E6D-4881-47AF-BFED-5EA4DABCFAF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D8BF1-050A-4677-9543-682697431E5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A2CFF-6E48-4CF8-965D-95C713FDB2F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04EDC-A44E-4206-97EC-E73AA4C7D1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2E6D1-2996-4AE1-AE99-E59F16416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D592-46D1-40DE-B003-1500841A170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FF4D9-14B0-48B9-99EC-2B0C9247902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1E2B5F-B8E6-434C-AB27-EE6FD5471EA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3C3E4F-1486-4B78-ADA6-40F5355E798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4C8428-E492-4AB9-80A8-32358B84728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79A06F-58B3-4797-9415-BEF107BCA69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699CBC-CD85-4C0F-9DDC-6F9A97B3A2B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1322CA-12D5-4EAF-A85D-6F15D80C182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4C0686-5AEC-4D9E-915C-DDFA76CFF7A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84B7EB-5F08-486F-A3BD-CBF80E092FB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6CA19-57D4-4EEC-A52E-246EF6C01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701B3-B6A6-4F18-95BA-91561CF1E2D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C70B7D-17B1-4EDB-8700-8F31B4A2628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E8D99E-5FE7-49A2-9627-CA9B3318090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A13E16-8B46-45EF-83B5-E3583F910AD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5A63D-D359-4987-A732-E41C4D39B1B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3BCB3-C0FA-4B49-8F94-6E53A5F372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C7437-7413-48DE-B578-E2643AA708E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53ED6-1B69-4E06-A927-E1D42787445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5ED7D-386B-444C-B690-F9CF7C5FE43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B342B-93FC-4D51-B7F2-1B1FAC77849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419CA-45B3-4A8A-A301-A4E184B045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C7FA4-B210-4B5E-A5EA-4EEBC54F4E7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097D4-594A-4DC0-9F02-57D4C0250A7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3244A-247E-42D4-8540-FF302EDC51D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3B270-7BE6-4E77-8555-CB8BF11D704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68656-0A39-46B8-B724-CBBB6BC5F12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AB35F-4F55-47C3-BE08-E11C61BB42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93AA7-9D75-4677-8108-F374D8C6DF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A9B3F-2D98-4149-B9D2-B660F4BDA0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F82E1-E6C1-4C36-87D1-AA6A2B5C7E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84BAF-423E-4CA5-A462-D1FD94E945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50E9D-6C8D-461E-8975-CF486B31A8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157E-6D3C-47F5-8007-17E04AFBD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E1D19-392B-410D-89A1-5C98033EAF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28D51-B5B4-444A-AB86-3DEB594DFD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83146-ECDD-4257-9FDE-B7DF123CD8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B0A03-D328-49AF-9B3F-3C32A95709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5A59F-1D31-4A29-8EB8-B35CEAB0B5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52AF-DB3F-4B30-98CC-377FB0B292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0CD7-6305-4426-8A5A-7F6427A60E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FB0E-DDD6-4B96-BE37-BCDA882F2E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1025-62FC-4354-B6F7-E4219D11EE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D634-831C-477D-86F3-701D702B8C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72055-7B12-45AC-91F2-3270B0EB6A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382B-2109-463F-952A-FCDB90DC6E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4877-3FBF-4AE0-9F4B-C6F6272FDD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1F99-5498-496D-8DCF-9FF290BD5F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ABFB-4477-4AB0-859B-D587490B0B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60D9-1AE1-4638-9973-10D70C980B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0460-AE0C-4B40-8B60-8C5A1423DA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10A5-CB24-494F-BC21-A7830DE51A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56BE5-D7A7-4F9B-8DDF-166B89C002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B0414-15D5-4881-B117-AF38AF10A9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6EC5B-3CF1-4079-BFF5-301761523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5DA6-E1FB-488D-80A3-BE6A49F760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943BD-FD3C-4277-AAC6-2B5657C1E0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19803-A5EF-4E62-A2F5-BDF1275EEB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E79FD-1884-4985-8671-2E17A15B8D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38489-D13D-4E05-897E-D7E2269659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BBF79-2A9B-42E7-B7AE-A94A17E0AE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2C3FF-DEBF-4231-AE7A-B8442343B2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57242-71AA-4B94-8719-37ACA4F014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BD799-E271-416D-A54C-25BE6F1FAA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859D2-F88F-456B-B9A5-4997EFDA826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BAB49-BC6E-4A24-AAA2-07BF25B9A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9F35-4DF3-4836-8E51-B9977A7114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F1FFD-4837-4D40-8DEF-6BB3D6168F3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DA900F-5408-4841-941A-87164C3DF7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EF93FC-0B6B-4E0E-8003-53F644CDF59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F29B1-E885-4F3F-AD2B-01627A2CFE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10EF6-4EA7-4533-A351-16BD0D2A3B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4490BA-507A-40E8-97EE-8592D121838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904980-3F9C-4C7A-A887-AA7936D590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F5B28-F3A2-4992-AE43-359C8BF27C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00B18-FA11-40E4-95F7-C6760F8570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E68D0-33C7-48FF-83B5-3D0AB8A65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C8C4-3B52-4308-9171-E0DB9489E05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A44226-4EEF-452D-AA2A-0204107E828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85DAC-E9C6-4CF4-B813-FC86E9636AB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F4C2-81C0-49C9-8724-584D7D3332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1AD08-072C-4BE3-91E4-4EC3730AF9B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043A3-E749-41CF-868E-1AA180109B6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2E63-F11B-4EE0-8751-D1EAD8089DA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FB713-E3E3-4B3D-9E77-A74FCECC134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AAB9-8E85-4C59-99BF-24F1F6164A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B7E0-BC49-4CE5-B161-58817E7D638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1001-75B9-4F5E-B2CB-22A2F2731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798F-2A3A-41FF-907A-E81FCA1D9D0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42AA-0565-4505-8984-CFF228E76F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6031-AFAE-4183-9F9F-220B2D15E1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09643-7C38-49F2-9203-B1A9C9137BC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69B99-CBF3-4422-8B97-2FABEACE14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CA085-113E-4FE8-AB3D-D01766E8951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66D49-256E-4078-8770-B30CBFF03F4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A74DB-82EE-4A19-80D3-A16CAFC135A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A5728-AC90-45B7-8AEF-80980E56A76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D28E7-D1D7-421A-A952-2464EC71CBA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4FA3A-DFC9-4BFF-9C93-4C9A418A5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FC4F-BF32-4BB2-B549-556D1FE4BD7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71476-2728-4CF7-B880-4A31AF32BEE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2C026-43C1-4770-8585-FB5467EC042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83641-9BB5-42D8-BF06-7DBB6F48C8F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61969-026C-4E5A-B931-2DD026B5255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76DB5-85CA-4F10-901A-DBEDE12BC15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43674-5357-43C3-BB3B-53993FD0B50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26DCB5-8DF9-4CDE-ADC6-E2DB570EF44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82A096-323D-47C8-85B8-F930D77922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E90CC9-0DCB-496B-B02C-01085607C82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EDEC20-3D0B-446B-BC9F-DE61C809D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1956-97A3-4DA2-948F-96B0844640C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0338FF-9DF7-44FD-B38A-68E946972F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C0C3CF-E280-4588-A52D-280B5016641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918B0E-58DA-4797-BB20-BF60017C182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8E88E2-E63D-476B-A51D-71A433ADD22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5CD03E-9A3B-4D4D-B2F5-E6D210CA8AB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05D611-6C38-494D-8974-F71F48F202D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1680AE-E01C-4038-9DD8-508B616F8D1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AFE8A-8FB4-40A8-AC3A-B78AE35154A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B7C2E-C256-49A0-BB36-1233C386A83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1EE8B-B5C5-47D7-8A19-1EFE0CCC6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E8DF-4DA1-466F-859D-F2E7ADC9E2AF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9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0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1BD4-2911-41A2-8ADC-B63A31714663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1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22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E9DF-CD4F-4526-8D73-271B4305BC07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23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72F5-A236-471C-8200-2A56B829B034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E5D7-205C-4C8F-B3DC-32ABB61B0E1C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E9B2-95DC-4C53-9606-8C50ECB896C6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E0B0-A9BB-48BE-AD31-2DCE8FCCC893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9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0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A284-6F80-44B6-AE0A-506E864860DA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1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2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CD4B-3551-4A05-9594-8F94E2FF6C30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3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555E-B56D-4ADD-8725-3452E3193311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5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6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3818-2385-405F-A70C-4180DDC01E5A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7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8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7F18-B206-4330-972E-CB6F408E9056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0" y="2971800"/>
            <a:ext cx="9144000" cy="228600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13" descr=""/>
          <p:cNvPicPr/>
          <p:nvPr/>
        </p:nvPicPr>
        <p:blipFill>
          <a:blip r:embed="rId1"/>
          <a:stretch/>
        </p:blipFill>
        <p:spPr>
          <a:xfrm>
            <a:off x="76320" y="3078000"/>
            <a:ext cx="2835000" cy="21034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76720" y="312408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Garamond"/>
              </a:rPr>
              <a:t>NSIDC DAAC Accessioning and “De-commissioning” Plans</a:t>
            </a:r>
            <a:endParaRPr b="1" i="1" lang="en-US" sz="36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3276720" y="43434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Ruth Duer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8" name="Picture 20" descr="PPT_logo_tagline"/>
          <p:cNvPicPr/>
          <p:nvPr/>
        </p:nvPicPr>
        <p:blipFill>
          <a:blip r:embed="rId2"/>
          <a:stretch/>
        </p:blipFill>
        <p:spPr>
          <a:xfrm>
            <a:off x="4952880" y="838080"/>
            <a:ext cx="38322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- Categories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5320" indent="-26532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rchival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– The relative amount of work required in order to ingest and archive a data set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5320" indent="-26532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tadata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– The amount of work required to develop and maintain metadata not just for the data set as a whole; but also for any data element or service associated with the data set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5320" indent="-26532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ocumentation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– The amount of work required to document the data set and any associated web page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5320" indent="-26532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stribution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– The amount of work required to support data distribution or distribution-related service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5320" indent="-26532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SO Infrastructure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– A one time setup required in order to provide any level of USO support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5320" indent="-26532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SO Support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– The amount of work required to support human-human requests for information about or help with the data set (via any mechanism – phone, email, etc.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1A48-28E5-4E5D-BDBD-D63311846B5A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– How they work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33520" y="9903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2480" indent="-22248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oS are a relative weighting of effort to achieve a certain sta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2480" indent="-22248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numeric score is given to each sta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2480" indent="-22248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ores can be affected by a number of multiplicative factors, for example, for archival some of the factors ar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54400" indent="-222480"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ata provided on obsolete media - score is multiplied by 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54400" indent="-222480"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o format/structure modifications are needed - score is multiplied by .7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2480" indent="-22248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adjusted scores for each category are summed to produce a single number for a data s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2480" indent="-22248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difference in scores between two Levels of Service reflect the effort required/freed by moving a data set from one LoS to anot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2480" indent="-22248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difference in scores between LoS scores for two different data sets reflect the difference in the effort needed to accept each data s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FD67-54DD-4E21-896F-8346181E4970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- Categories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CBD2-EB0A-4C9A-8549-4FF87CB8B7DD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8580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– Low Effort Exampl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PI requests NSIDC to archive and distribute the data she acquired during a particular field campaign.  The data is in a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standard format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 is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vailable electronically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FTP pull) but is expected to be of interest to a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limited set of user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so only a </a:t>
            </a:r>
            <a:r>
              <a:rPr b="1" lang="en-US" sz="2800" spc="-1" strike="noStrike">
                <a:solidFill>
                  <a:srgbClr val="660066"/>
                </a:solidFill>
                <a:latin typeface="Garamond"/>
              </a:rPr>
              <a:t>skinny catalog entry and readme file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re scoped for development.  Fortunately, t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PI is willing to provide the metadata and information for the readme fi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  NSIDC expects to </a:t>
            </a:r>
            <a:r>
              <a:rPr b="1" lang="en-US" sz="2800" spc="-1" strike="noStrike">
                <a:solidFill>
                  <a:srgbClr val="660066"/>
                </a:solidFill>
                <a:latin typeface="Garamond"/>
              </a:rPr>
              <a:t>distribute the data via an FTP site and provide basic documentation support for end user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8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A19B-9A4C-4FC6-8BFF-2CE164965FC4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– Low Effort Exampl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81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3001-8673-42E8-808E-A0E777A0DD4E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838080" y="808200"/>
          <a:ext cx="7467840" cy="5364000"/>
        </p:xfrm>
        <a:graphic>
          <a:graphicData uri="http://schemas.openxmlformats.org/drawingml/2006/table">
            <a:tbl>
              <a:tblPr/>
              <a:tblGrid>
                <a:gridCol w="228600"/>
                <a:gridCol w="1462320"/>
                <a:gridCol w="1692000"/>
                <a:gridCol w="2179800"/>
                <a:gridCol w="1204920"/>
                <a:gridCol w="700200"/>
              </a:tblGrid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Categories and Desired St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 x Fa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val State - NSIDC 1-time ingest =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No format mods are needed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ve Tot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data State - Skinny catalog =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data Tot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 State - Advertised + Readm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PI willing to provide the Readme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 Tot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 State - FTP acces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 Tot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Services Infrastructure Prepa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Infrastructure Prep Tot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Services State - Documentation Support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Monthly user support exp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Services Tot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rand Total Score:  28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– High Effort Exampl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PI requests NSIDC to ingest and distribute a 10-year time series of daily observations.  T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observations are on-going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the PI would like NSIDC to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cquire them as soon as they are available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fter being QC’d by the PI.  The PI had developed a set of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OGC services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ith which to access the data and would like NSIDC to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continue supporting these servic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  Given t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sizeable user communit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PI has been supporting NSIDC agrees to do so.  However, t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ata set is complex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not all of which NSIDC has experience with, and t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PI does not like writing documentati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6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1200-A4D8-40C9-8E27-3B1FA3866D82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– High Effort Exampl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89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95E5-B836-431E-8C70-2AC0DB971B7D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838080" y="838080"/>
          <a:ext cx="7508880" cy="53881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2449800"/>
                <a:gridCol w="976320"/>
                <a:gridCol w="699840"/>
              </a:tblGrid>
              <a:tr h="296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Categories and Desired St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 x 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val State - NSIDC ogoing ingest = 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Need to develop ingest script =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ve To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data State - Catalog + Inventory Plus =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data To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275"/>
                        </a:spcBef>
                        <a:tabLst>
                          <a:tab algn="l" pos="0"/>
                          <a:tab algn="l" pos="162576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 State - Advertised + Full documentation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Limited PI Input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Complicated Data S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5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 To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 State - FTP +NSIDC advanced services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Automated pre-distribution code nee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 To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Services Infrastructure 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Infrastructure Prep To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8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Services State - NSIDC Technical Support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Daily user support expecte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Complex data set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Multiple access p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3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Services To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rand Total Score:  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– Status and Plans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ughly a half dozen datasets have been put through the process and the queue is long and getting long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r working group attitude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Generally very supportiv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ther concerned that they will be inundated with request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SIDC may propose a modification to the process to more expeditiously handle small, low LoS requests without going through the UWG and NASA HQ step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DD81-47F4-48D8-BD6D-BB7A6CCC5ED6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“De-commissioning” Plan – Status and Plans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oal – To provide the NSIDC DAAC a mechanism to lower the LoS for a data se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duate student from UIUC’s GSLIS data curation program interned at NSIDC last summ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eviewed all decommissioning/deaccessioning/etc. plans and wrote a report summarizing her finding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rafted a plan parallel to the DAAC Data Acceptance Plan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an has been internally reviewed by the DAAC manager and is awaiting updates for broader internal review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B0F4-ECB7-4F50-BF15-1B3F4D068A93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“De-commissioning” Plan – Overview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762120" y="685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ny triggering event can start the process.  Example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ystems obsolescenc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etiring of key personn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oss of funding support or termination of contractual requiremen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eriodic review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duct team reviews existing materials, fills any gaps, and generates a recommendation (including potentially new Lo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rogrammatic consideration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cientific assessment (e.g., Uniqueness, literature references, etc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ata management considerations (e.g.,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ata file formats, hardware and software requirements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AAC UWG assesses DAAC materials and provides recommendation to NASA HQ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C75D-6109-4779-8DF3-14939DE4BB26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Outlin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AAC Data Acceptance Pla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evels of Servi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AAC Data Acceptance – Status and Pla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AAC Data “De-commissioning” Pla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0D14-EEE9-4162-B787-5F879F5732FA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“De-commissioning” Plan – And then what?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f data is to be moved to the lowest LoS possible, what should that LoS be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f data is really to be decommissioned what processes for community notification, etc. need to be followed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f data is to move to an “archive of last resort” what needs to accompany it and how should that be done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at records must NSIDC keep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DB16-082E-4A08-80C2-F7BD89ACDAF8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- Purpose 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sure that non-EOSDIS approved data and products submitted to the NSIDC DAAC […] are vetted and reviewed to be scientifically valid and viable for research applications.”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ASA approved product review process is used to recommend data sets for inclusion into the EOSDIS supported collection of NSIDC DAAC Standard Data sets.”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6C77-F492-4311-A7AB-1C5279C33BB2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- Heritag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SIDC Data Management Polic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scussions with EOSDIS and MeaSures progra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ccessioning plans from other agencies and organizations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DE39-E305-4E66-A550-263E1E087513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– Process Overview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9903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bmission package completed and submitted to DAAC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AAC product team reviews the submis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AAC User Working Group assesses cost/benefits and makes a recommend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ASA HQ approves (or not) recommend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AAC implements approved reques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C3C8-8255-4743-8F5B-A8878F161092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10" descr="dataset-approval-process---v2"/>
          <p:cNvPicPr/>
          <p:nvPr/>
        </p:nvPicPr>
        <p:blipFill>
          <a:blip r:embed="rId1"/>
          <a:srcRect l="26127" t="12354" r="2700" b="1945"/>
          <a:stretch/>
        </p:blipFill>
        <p:spPr>
          <a:xfrm>
            <a:off x="5910120" y="885960"/>
            <a:ext cx="3081600" cy="5149800"/>
          </a:xfrm>
          <a:prstGeom prst="rect">
            <a:avLst/>
          </a:prstGeom>
          <a:ln w="0">
            <a:noFill/>
          </a:ln>
        </p:spPr>
      </p:pic>
      <p:sp>
        <p:nvSpPr>
          <p:cNvPr id="545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– Submission Packag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posed titl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duct algorithm theoretical basi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ublication li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ustific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ata acquisition metho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uality and accuracy inform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nded or appropriate product uses and limita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ze, format, and ingest frequen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58AE-DA81-475D-9059-26969EC7C3FE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– Product Team Review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uracy and completeness check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arison with similar data sets to estimate user bas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10-20 users/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D9A0-47A4-46CD-93E1-EB5AAAC5A632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3429000" y="1905120"/>
          <a:ext cx="563868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905120"/>
                    <a:ext cx="563868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– Product Team Review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AAC Justific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rogrammatic consideration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cientific assessmen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termine appropriate levels of servi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timate total effort required to achieve that Lo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262B-FC4E-4EE2-AB95-A53463E0AC80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– User Working Group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view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ientific mer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posed LoS (and adjusts if necessary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nticipated level of effort requir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s a recommend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2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B2B5-E0F0-401C-BCE0-8055C7DE2944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4:35:02Z</dcterms:created>
  <dc:creator>Ruth Duerr</dc:creator>
  <dc:description/>
  <dc:language>en-US</dc:language>
  <cp:lastModifiedBy>Ruth Duerr</cp:lastModifiedBy>
  <cp:lastPrinted>2002-10-01T17:30:54Z</cp:lastPrinted>
  <dcterms:modified xsi:type="dcterms:W3CDTF">2010-01-06T06:13:14Z</dcterms:modified>
  <cp:revision>6</cp:revision>
  <dc:subject/>
  <dc:title>NSIDC DAAC Accessioning and De-accessioning Plans</dc:title>
</cp:coreProperties>
</file>